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1E5D-C7CD-4011-A4F3-813B1CA80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5336-4CE1-40E8-A68E-92D8EC8FB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D83C-7DA3-4B0F-9374-A1E881E45C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CDB0-2408-415D-A371-7D7587A36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4358-D144-44B4-AA81-D1F5AF0AF7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4E80-2F99-4941-8353-1C3279EF4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0128-503C-43A6-8F2B-75666BA95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9577-0079-4997-9569-763FAFE3D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3C7-21BC-41B1-8CA3-19C531CD7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A711-7A7A-4F68-AC8A-35CBFC43F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9120-3061-405B-8055-2177B3377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BFA-E5CE-468D-856F-5BDF7852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A81-B825-457C-9BC1-172F2C47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69E-EE68-43E1-A9C0-1D1243B8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5F5-A235-4173-B528-B30CB182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41E-65DC-426C-806C-3420E3D0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34F-D955-422E-8897-A49C4268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B88-0233-4813-BB2A-F453CAD6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CE5-8823-4AC7-AA96-80105861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822-F0BB-4722-B67A-3C0A16D7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24D-5CFD-47CB-82E7-6EE96477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607-E983-4A6D-9116-EFB4393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9E4-4236-4590-B9D9-E95966B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4C98-53AB-4896-8450-CB4F95445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0680" y="1641960"/>
            <a:ext cx="86662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 ФЕДЕРАЛЬНОГО СТАТИСТИЧЕСКОГО НАБЛЮ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6-ВН «СВЕДЕНИЯ О ПРИЧИНАХ ВРЕМЕННОЙ НЕТРУДОСПОСОБ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3024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сведений для заполнения формы 16-ВН является  «Книга регистрации листков нетрудоспособности» (Ф.№036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4920" y="-27000"/>
            <a:ext cx="88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6 – 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а приказом Росстата № 723 от 25.12.2014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лучаев подсчитывается только по закрытым (по данному случаю) листкам нетруд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01680" y="3935520"/>
            <a:ext cx="713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6-ВН включаются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дней временной нетрудоспособности (ВН) - графа 5 - п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,  по  причинам ВН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случаев ВН – в графу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с 7 по 16 – число случаев ВН, распределенных по пятилетним  возрастным групп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648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8000" y="633240"/>
          <a:ext cx="9036000" cy="4486320"/>
        </p:xfrm>
        <a:graphic>
          <a:graphicData uri="http://schemas.openxmlformats.org/drawingml/2006/table">
            <a:tbl>
              <a:tblPr/>
              <a:tblGrid>
                <a:gridCol w="718920"/>
                <a:gridCol w="649440"/>
                <a:gridCol w="431640"/>
                <a:gridCol w="459000"/>
                <a:gridCol w="909720"/>
                <a:gridCol w="863640"/>
                <a:gridCol w="502920"/>
                <a:gridCol w="433440"/>
                <a:gridCol w="574920"/>
                <a:gridCol w="433080"/>
                <a:gridCol w="432000"/>
                <a:gridCol w="503280"/>
                <a:gridCol w="576360"/>
                <a:gridCol w="504720"/>
                <a:gridCol w="477720"/>
                <a:gridCol w="565200"/>
              </a:tblGrid>
              <a:tr h="2800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-цион-ные и паразита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 - B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5400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нюю длительность ЛН по всем ноз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 прошлым г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4920" y="1890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ПРИ З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редняя длительность ВН изменилась более, чем на 10% по сравнению с предыдущим годом - объяснить прич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197000" y="4006800"/>
            <a:ext cx="7054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 по туберкулезу показывают только МО, оказ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ую (противотуберкулезную) медицинску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, обслуживающие детское население, заполняют строки 53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од за больным» и ЛН, выданные работающим подростк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чинам 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160" y="836640"/>
          <a:ext cx="9094680" cy="3779640"/>
        </p:xfrm>
        <a:graphic>
          <a:graphicData uri="http://schemas.openxmlformats.org/drawingml/2006/table">
            <a:tbl>
              <a:tblPr/>
              <a:tblGrid>
                <a:gridCol w="1171440"/>
                <a:gridCol w="803520"/>
                <a:gridCol w="447480"/>
                <a:gridCol w="534960"/>
                <a:gridCol w="1068480"/>
                <a:gridCol w="1001520"/>
                <a:gridCol w="438480"/>
                <a:gridCol w="431640"/>
                <a:gridCol w="431640"/>
                <a:gridCol w="384480"/>
                <a:gridCol w="385560"/>
                <a:gridCol w="385920"/>
                <a:gridCol w="384120"/>
                <a:gridCol w="384120"/>
                <a:gridCol w="420840"/>
                <a:gridCol w="4204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менность, роды и послеродо-во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00 - O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3"/>
          <p:cNvSpPr/>
          <p:nvPr/>
        </p:nvSpPr>
        <p:spPr>
          <a:xfrm>
            <a:off x="0" y="4797360"/>
            <a:ext cx="9058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ы все заболевания, являющиеся осложнением беременности, до декретного отпуска, а также осложнения после родов на протяжении всего послеродового периода. Также в этой строке указываются сведения о ВН по причине абортов (из строки 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9320" y="4797360"/>
            <a:ext cx="909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 же строки включают случаи, связанные с протезированием, выполнением донорских функций, обследованием, в результате которого пациенту был поставлен диагноз «здоров» (ххı класс МКБ-Х «факторы, влияющие на состояние здоровья населения и обращения в медицинские организации ( с профилактическими и иными целями). Представить пояснительн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6360" y="766800"/>
          <a:ext cx="9180360" cy="3957480"/>
        </p:xfrm>
        <a:graphic>
          <a:graphicData uri="http://schemas.openxmlformats.org/drawingml/2006/table">
            <a:tbl>
              <a:tblPr/>
              <a:tblGrid>
                <a:gridCol w="1117440"/>
                <a:gridCol w="746280"/>
                <a:gridCol w="500040"/>
                <a:gridCol w="993600"/>
                <a:gridCol w="995400"/>
                <a:gridCol w="903240"/>
                <a:gridCol w="425520"/>
                <a:gridCol w="415800"/>
                <a:gridCol w="416160"/>
                <a:gridCol w="334800"/>
                <a:gridCol w="335160"/>
                <a:gridCol w="333360"/>
                <a:gridCol w="415800"/>
                <a:gridCol w="417600"/>
                <a:gridCol w="414360"/>
                <a:gridCol w="41580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сем прич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836640"/>
          <a:ext cx="9105840" cy="3779640"/>
        </p:xfrm>
        <a:graphic>
          <a:graphicData uri="http://schemas.openxmlformats.org/drawingml/2006/table">
            <a:tbl>
              <a:tblPr/>
              <a:tblGrid>
                <a:gridCol w="1152360"/>
                <a:gridCol w="806760"/>
                <a:gridCol w="449280"/>
                <a:gridCol w="536400"/>
                <a:gridCol w="1073160"/>
                <a:gridCol w="1004760"/>
                <a:gridCol w="439920"/>
                <a:gridCol w="433440"/>
                <a:gridCol w="433440"/>
                <a:gridCol w="385560"/>
                <a:gridCol w="387360"/>
                <a:gridCol w="387360"/>
                <a:gridCol w="385920"/>
                <a:gridCol w="385560"/>
                <a:gridCol w="422280"/>
                <a:gridCol w="4222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уск по беремен-ности и ро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"/>
          <p:cNvSpPr/>
          <p:nvPr/>
        </p:nvSpPr>
        <p:spPr>
          <a:xfrm>
            <a:off x="-27000" y="4797360"/>
            <a:ext cx="90583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рожавшие в возрасте 50-54 и 55-59 лет, то обязательно должны быть предоставлены документы, подтверждающие факт родов (№ больничного листа, выписка из родильного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роке не должны указывать отпуск по уходу за малолетн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147600" y="-31608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Таблица 2610 в Ф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1042920" y="29671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уется на основании данных медицинских организаций. Отражается количество инвалидов, которые состоят на уч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4520" y="-3636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1835280" y="1471680"/>
            <a:ext cx="5317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Спасибо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за внимание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79280" y="4797360"/>
            <a:ext cx="792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овдра Ольга Леонид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-mail: olgashovdra@rambl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. 8(914) 439-07-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10:09Z</dcterms:created>
  <dc:creator>Светлана</dc:creator>
  <dc:description/>
  <dc:language>en-US</dc:language>
  <cp:lastModifiedBy>Елена Александровна Бронникова</cp:lastModifiedBy>
  <dcterms:modified xsi:type="dcterms:W3CDTF">2019-12-20T01:12:39Z</dcterms:modified>
  <cp:revision>403</cp:revision>
  <dc:subject/>
  <dc:title>Слайд 1</dc:title>
</cp:coreProperties>
</file>